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5.wmf" ContentType="image/x-wmf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37.jpeg" ContentType="image/jpe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3.jpeg" ContentType="image/jpeg"/>
  <Override PartName="/ppt/media/image4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09C-72C2-46A7-A1AF-15FED2C2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0D2-3202-4BFA-B264-40F10251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02F-6B75-4AF3-A874-643340CE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6BF-EA17-43C9-8EEC-311BA4FB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40B2-9A46-4834-A7DF-B7066D33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5E1D-A3BB-4B91-AA96-64D6AC1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7D41-D3D9-4559-B8B9-88B656E3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456B-B9CE-46C3-9518-BC5FB91B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E5F6-CDB0-4834-8904-5EA56A0F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D932-4406-4A31-9D21-2E21B1C8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07CE-D76F-4C4A-81D9-1D23606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A91-EBCB-4BC9-BFA6-CFD56B16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85ED-C4A6-40E9-ABFF-1B8E1BE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05A4-4456-4A32-AC86-E6CF3CF9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BB9-71EA-4DC1-A3A1-8386571E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D09D-3940-4164-BC7E-175B143A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5FC2-5C0A-4166-A4D8-D72186F5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421-772A-429D-8781-3F6BEEC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9E0-BF06-4055-AD5C-C239D44E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6AF-E25F-4FD8-9DB5-438D49ED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ED5-AEDF-43A3-B6A3-9DBA4B81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A9B-2A60-4E88-94C4-C6479D7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387-C41A-4EF4-93C6-0D33766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097-E8B4-41C2-B51A-48DBC20C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453360"/>
            <a:ext cx="2895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CB67-4D60-4A84-9F63-A32A9784D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1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Graphics Interface, Victoria, 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466-704B-44BA-A6A0-572D9E965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649680"/>
            <a:ext cx="9144000" cy="195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oving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422064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e Collomb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rick Baudisch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Microsoft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Mountaz Hascoët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Brian Lee, Stanford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Computer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7384" t="0" r="4747" b="0"/>
          <a:stretch/>
        </p:blipFill>
        <p:spPr>
          <a:xfrm>
            <a:off x="3348000" y="4046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sbee [Khan, UIST 04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3751560" cy="176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6273720" cy="235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64280" y="1197000"/>
            <a:ext cx="387972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B09-8EA8-4C55-915D-3BD8FE76FF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ointers [Olsen 01, Myers 02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34320" cy="51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6BA-67B3-4275-83E1-09A6C8D009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orBeam [Parker, in 30min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93080" cy="301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406-510C-4EC2-9231-77883D93A2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throw [Hascoët, HCI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tograph princip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~go go technique [Poupyrev, UIST 96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C6F-FFBE-4959-9EE3-3FCCDF98E0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2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4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AR [Nacenta,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ographs (lots of them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56468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120-D849-42E9-96E9-E0DCDE2718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ag-and-pop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Baudisch, INTERACT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D94-B74A-429B-9DD0-1548A26469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3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468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cuum [Bezerianos, 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312-56D4-435B-8036-9831093D26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question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2A1-63C5-4768-9131-121227E709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user to content (push-and-th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content to user (drag-and-p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just good old direct manipul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ick-and-drop)</a:t>
            </a:r>
            <a:br>
              <a:rPr sz="2800"/>
            </a:b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705-9F2E-4CE3-82D5-C4A8703602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drag-and-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symmetric targe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roxies appear in current display un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-1668" b="-1352"/>
          <a:stretch/>
        </p:blipFill>
        <p:spPr>
          <a:xfrm>
            <a:off x="4284720" y="4365720"/>
            <a:ext cx="43196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032-B8F1-413A-8320-060DC678AA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698480"/>
            <a:ext cx="9144000" cy="418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1697040"/>
            <a:ext cx="9144000" cy="4183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ush-and-pop: not quite a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6021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load our demo from www.lirmm.fr/vag/dr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A3B-E9E7-4C23-9438-6D86124CCC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push-and-thr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on-linear accel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emantic poin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down pointer over target [Blanch CHI 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D9B-8D5A-4900-A593-046E6A310D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4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ait: maybe push-and-throw and drag-and-pop are not mutually exclusiv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1B3-3512-493D-8A17-01F4507851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drag-and-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ing targets to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imprecision of push-and-th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push-and-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object centered take-off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arget set selection error of drag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230652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94600" y="2205000"/>
            <a:ext cx="284940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A27-9FD6-423C-99AB-4AEB90FC4B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B9F-42B3-4DBC-B17F-BFC9D6F3E62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34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68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DD2-FF63-456A-A947-7DD2D1D541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16720" y="260280"/>
            <a:ext cx="35272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W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354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67280" y="2833560"/>
            <a:ext cx="5076720" cy="3630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437000"/>
            <a:ext cx="385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displa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852640"/>
            <a:ext cx="5076720" cy="36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00F-3FAE-415F-9A79-EE0234CE30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2276640"/>
          <a:ext cx="8569080" cy="3622680"/>
        </p:xfrm>
        <a:graphic>
          <a:graphicData uri="http://schemas.openxmlformats.org/drawingml/2006/table">
            <a:tbl>
              <a:tblPr/>
              <a:tblGrid>
                <a:gridCol w="2828880"/>
                <a:gridCol w="2500200"/>
                <a:gridCol w="32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ech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ed to reor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ick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ush-and-th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ccelerated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O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sh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e, later 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08000" y="278136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3860640"/>
            <a:ext cx="8856720" cy="1008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86900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118-5EDB-49A9-89AB-45DE3812382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gging icons into target ic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imulated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3 tim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 times on th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6 / 288 trials for each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ive satisf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AF9-2876-4383-8F9D-49C66741D4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29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20720" y="1474920"/>
            <a:ext cx="6337440" cy="3429000"/>
          </a:xfrm>
          <a:custGeom>
            <a:avLst/>
            <a:gdLst/>
            <a:ahLst/>
            <a:rect l="l" t="t" r="r" b="b"/>
            <a:pathLst>
              <a:path w="3992" h="2160">
                <a:moveTo>
                  <a:pt x="208" y="1836"/>
                </a:moveTo>
                <a:cubicBezTo>
                  <a:pt x="369" y="1795"/>
                  <a:pt x="923" y="1906"/>
                  <a:pt x="1129" y="1843"/>
                </a:cubicBezTo>
                <a:cubicBezTo>
                  <a:pt x="1335" y="1780"/>
                  <a:pt x="1335" y="1675"/>
                  <a:pt x="1444" y="1459"/>
                </a:cubicBezTo>
                <a:cubicBezTo>
                  <a:pt x="1553" y="1243"/>
                  <a:pt x="1559" y="766"/>
                  <a:pt x="1782" y="546"/>
                </a:cubicBezTo>
                <a:cubicBezTo>
                  <a:pt x="2005" y="326"/>
                  <a:pt x="2488" y="209"/>
                  <a:pt x="2781" y="139"/>
                </a:cubicBezTo>
                <a:cubicBezTo>
                  <a:pt x="3074" y="69"/>
                  <a:pt x="3381" y="0"/>
                  <a:pt x="3541" y="123"/>
                </a:cubicBezTo>
                <a:cubicBezTo>
                  <a:pt x="3701" y="246"/>
                  <a:pt x="3992" y="733"/>
                  <a:pt x="3741" y="876"/>
                </a:cubicBezTo>
                <a:cubicBezTo>
                  <a:pt x="3490" y="1019"/>
                  <a:pt x="2395" y="848"/>
                  <a:pt x="2036" y="983"/>
                </a:cubicBezTo>
                <a:cubicBezTo>
                  <a:pt x="1677" y="1118"/>
                  <a:pt x="1730" y="1500"/>
                  <a:pt x="1587" y="1685"/>
                </a:cubicBezTo>
                <a:cubicBezTo>
                  <a:pt x="1444" y="1870"/>
                  <a:pt x="1416" y="2026"/>
                  <a:pt x="1179" y="2093"/>
                </a:cubicBezTo>
                <a:cubicBezTo>
                  <a:pt x="942" y="2160"/>
                  <a:pt x="324" y="2132"/>
                  <a:pt x="162" y="2089"/>
                </a:cubicBezTo>
                <a:cubicBezTo>
                  <a:pt x="0" y="2046"/>
                  <a:pt x="47" y="1877"/>
                  <a:pt x="208" y="183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2800" y="3370320"/>
            <a:ext cx="6505560" cy="1539720"/>
          </a:xfrm>
          <a:custGeom>
            <a:avLst/>
            <a:gdLst/>
            <a:ahLst/>
            <a:rect l="l" t="t" r="r" b="b"/>
            <a:pathLst>
              <a:path w="4098" h="970">
                <a:moveTo>
                  <a:pt x="267" y="519"/>
                </a:moveTo>
                <a:cubicBezTo>
                  <a:pt x="338" y="448"/>
                  <a:pt x="493" y="490"/>
                  <a:pt x="599" y="486"/>
                </a:cubicBezTo>
                <a:cubicBezTo>
                  <a:pt x="705" y="482"/>
                  <a:pt x="743" y="552"/>
                  <a:pt x="904" y="496"/>
                </a:cubicBezTo>
                <a:cubicBezTo>
                  <a:pt x="1065" y="440"/>
                  <a:pt x="1410" y="177"/>
                  <a:pt x="1567" y="148"/>
                </a:cubicBezTo>
                <a:cubicBezTo>
                  <a:pt x="1724" y="119"/>
                  <a:pt x="1747" y="308"/>
                  <a:pt x="1849" y="319"/>
                </a:cubicBezTo>
                <a:cubicBezTo>
                  <a:pt x="1951" y="330"/>
                  <a:pt x="2073" y="209"/>
                  <a:pt x="2179" y="212"/>
                </a:cubicBezTo>
                <a:cubicBezTo>
                  <a:pt x="2285" y="215"/>
                  <a:pt x="2388" y="333"/>
                  <a:pt x="2486" y="335"/>
                </a:cubicBezTo>
                <a:cubicBezTo>
                  <a:pt x="2584" y="337"/>
                  <a:pt x="2611" y="282"/>
                  <a:pt x="2770" y="227"/>
                </a:cubicBezTo>
                <a:cubicBezTo>
                  <a:pt x="2929" y="172"/>
                  <a:pt x="3287" y="10"/>
                  <a:pt x="3439" y="5"/>
                </a:cubicBezTo>
                <a:cubicBezTo>
                  <a:pt x="3591" y="0"/>
                  <a:pt x="3627" y="103"/>
                  <a:pt x="3684" y="196"/>
                </a:cubicBezTo>
                <a:cubicBezTo>
                  <a:pt x="3741" y="289"/>
                  <a:pt x="4098" y="492"/>
                  <a:pt x="3784" y="565"/>
                </a:cubicBezTo>
                <a:cubicBezTo>
                  <a:pt x="3470" y="638"/>
                  <a:pt x="2210" y="582"/>
                  <a:pt x="1797" y="632"/>
                </a:cubicBezTo>
                <a:cubicBezTo>
                  <a:pt x="1384" y="682"/>
                  <a:pt x="1578" y="819"/>
                  <a:pt x="1307" y="866"/>
                </a:cubicBezTo>
                <a:cubicBezTo>
                  <a:pt x="1036" y="913"/>
                  <a:pt x="346" y="970"/>
                  <a:pt x="173" y="912"/>
                </a:cubicBezTo>
                <a:cubicBezTo>
                  <a:pt x="0" y="854"/>
                  <a:pt x="196" y="590"/>
                  <a:pt x="267" y="51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5600" y="4246560"/>
            <a:ext cx="6465600" cy="649440"/>
          </a:xfrm>
          <a:custGeom>
            <a:avLst/>
            <a:gdLst/>
            <a:ahLst/>
            <a:rect l="l" t="t" r="r" b="b"/>
            <a:pathLst>
              <a:path w="4073" h="409">
                <a:moveTo>
                  <a:pt x="0" y="366"/>
                </a:moveTo>
                <a:cubicBezTo>
                  <a:pt x="559" y="409"/>
                  <a:pt x="2853" y="403"/>
                  <a:pt x="3463" y="351"/>
                </a:cubicBezTo>
                <a:cubicBezTo>
                  <a:pt x="4073" y="299"/>
                  <a:pt x="3698" y="102"/>
                  <a:pt x="3663" y="51"/>
                </a:cubicBezTo>
                <a:cubicBezTo>
                  <a:pt x="3628" y="0"/>
                  <a:pt x="3378" y="27"/>
                  <a:pt x="3256" y="44"/>
                </a:cubicBezTo>
                <a:cubicBezTo>
                  <a:pt x="3134" y="61"/>
                  <a:pt x="3130" y="151"/>
                  <a:pt x="2933" y="151"/>
                </a:cubicBezTo>
                <a:cubicBezTo>
                  <a:pt x="2736" y="151"/>
                  <a:pt x="2328" y="50"/>
                  <a:pt x="2073" y="44"/>
                </a:cubicBezTo>
                <a:cubicBezTo>
                  <a:pt x="1818" y="38"/>
                  <a:pt x="1663" y="93"/>
                  <a:pt x="1405" y="113"/>
                </a:cubicBezTo>
                <a:cubicBezTo>
                  <a:pt x="1147" y="133"/>
                  <a:pt x="738" y="171"/>
                  <a:pt x="522" y="167"/>
                </a:cubicBezTo>
                <a:cubicBezTo>
                  <a:pt x="306" y="163"/>
                  <a:pt x="194" y="57"/>
                  <a:pt x="107" y="90"/>
                </a:cubicBezTo>
                <a:cubicBezTo>
                  <a:pt x="20" y="123"/>
                  <a:pt x="22" y="309"/>
                  <a:pt x="0" y="36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860640"/>
            <a:ext cx="43164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1557360"/>
            <a:ext cx="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B2D-6796-4C35-852D-88C76A3C5B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293080" cy="4233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386064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13192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50864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1156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965-6A86-40F3-976E-EB966885E8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ames ahea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4AA-C3D4-457E-A4BB-682F7E2B8A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084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773360"/>
            <a:ext cx="2592360" cy="503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2349360"/>
            <a:ext cx="259236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4365720"/>
            <a:ext cx="2592360" cy="107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2BB-060F-425A-9AC9-1772526AD28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d same study on 3-unit display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56000" y="2860560"/>
            <a:ext cx="475128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257-DF5C-46DF-850A-4642E1AF47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297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38280" y="1544760"/>
            <a:ext cx="6659640" cy="3468600"/>
          </a:xfrm>
          <a:custGeom>
            <a:avLst/>
            <a:gdLst/>
            <a:ahLst/>
            <a:rect l="l" t="t" r="r" b="b"/>
            <a:pathLst>
              <a:path w="4195" h="2185">
                <a:moveTo>
                  <a:pt x="321" y="2153"/>
                </a:moveTo>
                <a:cubicBezTo>
                  <a:pt x="413" y="2134"/>
                  <a:pt x="492" y="2012"/>
                  <a:pt x="651" y="1999"/>
                </a:cubicBezTo>
                <a:cubicBezTo>
                  <a:pt x="810" y="1986"/>
                  <a:pt x="1117" y="2128"/>
                  <a:pt x="1274" y="2076"/>
                </a:cubicBezTo>
                <a:cubicBezTo>
                  <a:pt x="1431" y="2024"/>
                  <a:pt x="1426" y="1743"/>
                  <a:pt x="1593" y="1686"/>
                </a:cubicBezTo>
                <a:cubicBezTo>
                  <a:pt x="1760" y="1629"/>
                  <a:pt x="2100" y="1738"/>
                  <a:pt x="2274" y="1731"/>
                </a:cubicBezTo>
                <a:cubicBezTo>
                  <a:pt x="2448" y="1724"/>
                  <a:pt x="2526" y="1736"/>
                  <a:pt x="2637" y="1641"/>
                </a:cubicBezTo>
                <a:cubicBezTo>
                  <a:pt x="2748" y="1546"/>
                  <a:pt x="2834" y="1230"/>
                  <a:pt x="2940" y="1162"/>
                </a:cubicBezTo>
                <a:cubicBezTo>
                  <a:pt x="3046" y="1094"/>
                  <a:pt x="3096" y="1228"/>
                  <a:pt x="3272" y="1232"/>
                </a:cubicBezTo>
                <a:cubicBezTo>
                  <a:pt x="3448" y="1236"/>
                  <a:pt x="3877" y="1368"/>
                  <a:pt x="3998" y="1187"/>
                </a:cubicBezTo>
                <a:cubicBezTo>
                  <a:pt x="4119" y="1006"/>
                  <a:pt x="4195" y="288"/>
                  <a:pt x="3998" y="144"/>
                </a:cubicBezTo>
                <a:cubicBezTo>
                  <a:pt x="3801" y="0"/>
                  <a:pt x="3066" y="181"/>
                  <a:pt x="2818" y="325"/>
                </a:cubicBezTo>
                <a:cubicBezTo>
                  <a:pt x="2570" y="469"/>
                  <a:pt x="2661" y="902"/>
                  <a:pt x="2510" y="1008"/>
                </a:cubicBezTo>
                <a:cubicBezTo>
                  <a:pt x="2359" y="1114"/>
                  <a:pt x="2080" y="940"/>
                  <a:pt x="1911" y="960"/>
                </a:cubicBezTo>
                <a:cubicBezTo>
                  <a:pt x="1742" y="980"/>
                  <a:pt x="1623" y="1001"/>
                  <a:pt x="1496" y="1131"/>
                </a:cubicBezTo>
                <a:cubicBezTo>
                  <a:pt x="1369" y="1261"/>
                  <a:pt x="1371" y="1638"/>
                  <a:pt x="1151" y="1738"/>
                </a:cubicBezTo>
                <a:cubicBezTo>
                  <a:pt x="931" y="1838"/>
                  <a:pt x="350" y="1667"/>
                  <a:pt x="175" y="1730"/>
                </a:cubicBezTo>
                <a:cubicBezTo>
                  <a:pt x="0" y="1793"/>
                  <a:pt x="75" y="2043"/>
                  <a:pt x="99" y="2114"/>
                </a:cubicBezTo>
                <a:cubicBezTo>
                  <a:pt x="123" y="2185"/>
                  <a:pt x="246" y="2164"/>
                  <a:pt x="321" y="2153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4680" y="2128680"/>
            <a:ext cx="6549840" cy="1870200"/>
          </a:xfrm>
          <a:custGeom>
            <a:avLst/>
            <a:gdLst/>
            <a:ahLst/>
            <a:rect l="l" t="t" r="r" b="b"/>
            <a:pathLst>
              <a:path w="4126" h="1178">
                <a:moveTo>
                  <a:pt x="227" y="1155"/>
                </a:moveTo>
                <a:cubicBezTo>
                  <a:pt x="310" y="1178"/>
                  <a:pt x="493" y="932"/>
                  <a:pt x="609" y="910"/>
                </a:cubicBezTo>
                <a:cubicBezTo>
                  <a:pt x="725" y="888"/>
                  <a:pt x="767" y="1011"/>
                  <a:pt x="926" y="1024"/>
                </a:cubicBezTo>
                <a:cubicBezTo>
                  <a:pt x="1085" y="1037"/>
                  <a:pt x="1325" y="1004"/>
                  <a:pt x="1563" y="986"/>
                </a:cubicBezTo>
                <a:cubicBezTo>
                  <a:pt x="1801" y="968"/>
                  <a:pt x="2134" y="985"/>
                  <a:pt x="2354" y="917"/>
                </a:cubicBezTo>
                <a:cubicBezTo>
                  <a:pt x="2574" y="849"/>
                  <a:pt x="2714" y="625"/>
                  <a:pt x="2884" y="579"/>
                </a:cubicBezTo>
                <a:cubicBezTo>
                  <a:pt x="3054" y="533"/>
                  <a:pt x="3244" y="658"/>
                  <a:pt x="3376" y="638"/>
                </a:cubicBezTo>
                <a:cubicBezTo>
                  <a:pt x="3508" y="618"/>
                  <a:pt x="3561" y="463"/>
                  <a:pt x="3675" y="456"/>
                </a:cubicBezTo>
                <a:cubicBezTo>
                  <a:pt x="3789" y="449"/>
                  <a:pt x="3995" y="639"/>
                  <a:pt x="4059" y="594"/>
                </a:cubicBezTo>
                <a:cubicBezTo>
                  <a:pt x="4123" y="549"/>
                  <a:pt x="4126" y="281"/>
                  <a:pt x="4057" y="184"/>
                </a:cubicBezTo>
                <a:cubicBezTo>
                  <a:pt x="3988" y="87"/>
                  <a:pt x="3765" y="0"/>
                  <a:pt x="3644" y="11"/>
                </a:cubicBezTo>
                <a:cubicBezTo>
                  <a:pt x="3523" y="22"/>
                  <a:pt x="3463" y="235"/>
                  <a:pt x="3329" y="249"/>
                </a:cubicBezTo>
                <a:cubicBezTo>
                  <a:pt x="3195" y="263"/>
                  <a:pt x="2962" y="98"/>
                  <a:pt x="2838" y="95"/>
                </a:cubicBezTo>
                <a:cubicBezTo>
                  <a:pt x="2714" y="92"/>
                  <a:pt x="2685" y="170"/>
                  <a:pt x="2584" y="233"/>
                </a:cubicBezTo>
                <a:cubicBezTo>
                  <a:pt x="2483" y="296"/>
                  <a:pt x="2338" y="453"/>
                  <a:pt x="2231" y="471"/>
                </a:cubicBezTo>
                <a:cubicBezTo>
                  <a:pt x="2124" y="489"/>
                  <a:pt x="2043" y="321"/>
                  <a:pt x="1939" y="341"/>
                </a:cubicBezTo>
                <a:cubicBezTo>
                  <a:pt x="1835" y="361"/>
                  <a:pt x="1782" y="623"/>
                  <a:pt x="1607" y="592"/>
                </a:cubicBezTo>
                <a:cubicBezTo>
                  <a:pt x="1432" y="561"/>
                  <a:pt x="1136" y="127"/>
                  <a:pt x="887" y="157"/>
                </a:cubicBezTo>
                <a:cubicBezTo>
                  <a:pt x="638" y="187"/>
                  <a:pt x="220" y="608"/>
                  <a:pt x="110" y="774"/>
                </a:cubicBezTo>
                <a:cubicBezTo>
                  <a:pt x="0" y="940"/>
                  <a:pt x="144" y="1132"/>
                  <a:pt x="227" y="1155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0040" y="3633840"/>
            <a:ext cx="6496200" cy="1192320"/>
          </a:xfrm>
          <a:custGeom>
            <a:avLst/>
            <a:gdLst/>
            <a:ahLst/>
            <a:rect l="l" t="t" r="r" b="b"/>
            <a:pathLst>
              <a:path w="4092" h="751">
                <a:moveTo>
                  <a:pt x="115" y="699"/>
                </a:moveTo>
                <a:cubicBezTo>
                  <a:pt x="229" y="751"/>
                  <a:pt x="351" y="707"/>
                  <a:pt x="822" y="706"/>
                </a:cubicBezTo>
                <a:cubicBezTo>
                  <a:pt x="1293" y="705"/>
                  <a:pt x="2419" y="717"/>
                  <a:pt x="2942" y="691"/>
                </a:cubicBezTo>
                <a:cubicBezTo>
                  <a:pt x="3465" y="665"/>
                  <a:pt x="3828" y="642"/>
                  <a:pt x="3960" y="551"/>
                </a:cubicBezTo>
                <a:cubicBezTo>
                  <a:pt x="4092" y="460"/>
                  <a:pt x="3860" y="224"/>
                  <a:pt x="3733" y="146"/>
                </a:cubicBezTo>
                <a:cubicBezTo>
                  <a:pt x="3606" y="68"/>
                  <a:pt x="3336" y="82"/>
                  <a:pt x="3195" y="84"/>
                </a:cubicBezTo>
                <a:cubicBezTo>
                  <a:pt x="3054" y="86"/>
                  <a:pt x="3001" y="170"/>
                  <a:pt x="2888" y="161"/>
                </a:cubicBezTo>
                <a:cubicBezTo>
                  <a:pt x="2775" y="152"/>
                  <a:pt x="2625" y="33"/>
                  <a:pt x="2519" y="30"/>
                </a:cubicBezTo>
                <a:cubicBezTo>
                  <a:pt x="2413" y="27"/>
                  <a:pt x="2366" y="145"/>
                  <a:pt x="2250" y="146"/>
                </a:cubicBezTo>
                <a:cubicBezTo>
                  <a:pt x="2134" y="147"/>
                  <a:pt x="2048" y="0"/>
                  <a:pt x="1820" y="38"/>
                </a:cubicBezTo>
                <a:cubicBezTo>
                  <a:pt x="1592" y="76"/>
                  <a:pt x="1163" y="317"/>
                  <a:pt x="883" y="376"/>
                </a:cubicBezTo>
                <a:cubicBezTo>
                  <a:pt x="603" y="435"/>
                  <a:pt x="266" y="337"/>
                  <a:pt x="138" y="391"/>
                </a:cubicBezTo>
                <a:cubicBezTo>
                  <a:pt x="10" y="445"/>
                  <a:pt x="0" y="650"/>
                  <a:pt x="115" y="69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21000"/>
            <a:ext cx="0" cy="27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177336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89C-18D3-4727-81E3-EBE19DF0EB9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202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53750" b="3068"/>
          <a:stretch/>
        </p:blipFill>
        <p:spPr>
          <a:xfrm>
            <a:off x="1619280" y="1630440"/>
            <a:ext cx="2448000" cy="4103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40360" y="3571920"/>
            <a:ext cx="2232000" cy="504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81E-7388-46A7-BBB8-D1046479011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3800" cy="4289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162864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64500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3F8-A60A-4413-B4D3-C6529FF8CE2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s well on single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pointer-to-target technique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c. push-and-thr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improvements were benef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sh-and-p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utperformed all other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F3D-AF47-496C-99AF-CAFA817691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at bring content to the u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ink: this is because they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nim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eed for users to reorient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B6E-680B-4654-A99F-B9A2A9D275D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e desig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18508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961-3C58-47A7-817D-1E867F96D7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6156360" cy="37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2916360" cy="1957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F91-0877-43D0-9AA0-FF461AEF71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 Mountaz &amp;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our demo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lirmm.fr/vag/dra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0B3-0469-4A37-8BA7-DD80B38CAA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ing on wall-size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of exist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ing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throw &amp; drag-and-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of both worlds: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-and-p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124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1B5-222E-480E-A87A-CDA8432E1F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 In case of » sl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rubber b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one rubber band (current selected 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desktop layout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rooms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ing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C47-6590-45FD-B9EE-749CB00CFB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3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C6B-C502-40A0-85B1-C3A7B3DD6A7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sh-and-pop with rubber ba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D08-2B0D-4496-81A5-F96A8B33C8F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667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334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pop with one rubber band (current selected targ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4A7-46DF-4DB6-B27C-2A1B1E226A2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334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68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blocks of 10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teraction techniq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esktop layo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sources and targets (different positions for each tr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source and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160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display and mouse wer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D76-FCE5-4C03-89D7-BCA7BC0CB8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ing menus [Kurtenbach, CHI 9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4427640" cy="3556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93236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E46-DB78-4144-B6F6-27A6FEC8E4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s wasn’t significant between the 2 desktop lay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70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56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770280"/>
            <a:ext cx="4572000" cy="3087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0" y="3770280"/>
            <a:ext cx="457200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561-219F-49F7-AF58-EEE15CF1D9E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: Tableclo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85800" y="3505320"/>
            <a:ext cx="7314480" cy="2316600"/>
            <a:chOff x="685800" y="3505320"/>
            <a:chExt cx="7314480" cy="23166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685800" y="3505320"/>
              <a:ext cx="7314480" cy="19515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3714480" y="4373640"/>
              <a:ext cx="967320" cy="144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AE2-CF98-4527-A30D-9C36EA0FC7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ed surfaces are more and more 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board 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24642" t="0" r="0" b="0"/>
          <a:stretch/>
        </p:blipFill>
        <p:spPr>
          <a:xfrm>
            <a:off x="6721560" y="3716280"/>
            <a:ext cx="2422440" cy="24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2384280" cy="31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B63-B0E9-408A-9D16-A62127324E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1206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Problems with pen&amp;to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58136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not be able to reac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y be to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zels not touch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C39-B4BC-4381-96D7-C4FF969174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lated wor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(RSVP version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AA0-3E63-4E35-BE5B-60655F9E80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k-and-dr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-and-drop [Rekimoto, 97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-and-put [Geißler, 98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14332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992-0B09-4D59-8413-D5837426DB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34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68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dragging [Rekimoto, CHI 99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6769080" cy="50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26676" t="9898" r="24390" b="20929"/>
          <a:stretch/>
        </p:blipFill>
        <p:spPr>
          <a:xfrm>
            <a:off x="6443640" y="386064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1B3-7E33-4563-AAD3-353083D386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7:58:37Z</dcterms:created>
  <dc:creator>collomb</dc:creator>
  <dc:description/>
  <dc:language>en-US</dc:language>
  <cp:lastModifiedBy>collomb</cp:lastModifiedBy>
  <dcterms:modified xsi:type="dcterms:W3CDTF">2005-05-09T08:35:04Z</dcterms:modified>
  <cp:revision>57</cp:revision>
  <dc:subject/>
  <dc:title>Diapositive 1</dc:title>
</cp:coreProperties>
</file>